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ECD3-881E-41B2-9F87-B77C9EF8E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06CA-05A9-4122-8F24-AF05950F2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47A6-7032-44E5-97A2-DAE327C86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D268-4651-4052-A0E4-DC6B02674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ABEC9-B490-4781-A86F-AFCC9A66E7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A1B98-1C69-40FC-9785-94B3770B33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D9796-58C3-4BCE-B8AA-9580D5CE7B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8912B-5529-4FE8-B642-4D744AC4B1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70DC9-9116-4EF7-83A3-C5F33731D0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AEB8D-340F-4810-8AB0-BE17B33B16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47737-3C1E-499B-BD8A-61BAEDC392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499E-60D8-424B-9A6E-4FF70E2FD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1277E-85AB-4828-93ED-66AE9D37B7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49E07-AF14-4F77-9D76-7F2480457C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E9D45-C8A9-4A4E-A73D-656649C007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7986E-0528-4716-BC5B-0C19D558C3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DDA2-E149-417D-AE9F-6D8F0A1B03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2EB-C4F8-4569-B155-1F853164AF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6DD5-1C73-48DB-AB0F-D9E2A418B8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86E-65E9-4282-971A-A0BB986372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C2AC-3494-4FAB-8BAC-8EFB4A54F2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13D7-4F66-4C63-8A95-B30A087C69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D733-258A-407F-B434-7ADD645172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43E-4925-4912-A241-8BCF57AE30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C86-1748-40C8-B7F3-E3B4FD6B67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E17-B270-483E-85E2-93A95EE0EE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694-429F-460C-BFED-D3036FA63D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9ACD-6E81-49FF-90CB-3B08638608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A919-8371-4C76-BAF6-37BA4402E5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E15-D1AE-4E2E-B09D-CFF64B4CCD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9EE9E-34EF-406F-8079-D42D3A43AE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8975D-3970-435B-95BE-79BA1288E6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195B0-A3DF-4731-801A-5F067A1B6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80E5-34D3-41E5-A61C-4CCD1B3B7D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71FE8-6C5D-47DE-99DB-18F39D27E2C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D380D-2530-4C1C-88F0-BA5A4B9D6F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F5327-78C5-4F46-A335-256E05E471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BD59A-7732-4C26-B368-442812CCB8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61E40-6F64-45C1-892E-FBBF6BDD12C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A7842-D6D9-4AD3-BBA9-52A6D3FE25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1BF8E-DE83-48E3-8A29-DFB13BD314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F4D9A-B759-4EEC-A20A-8107D13256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395A8-CD3D-42FC-A59A-DC7095857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B65A-EB58-4786-B449-21F62A2BD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F18B-FEB8-4EC7-AD8D-9BCDDA577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FDBD-1142-4EBA-B604-A07C60B9E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D54D-C613-4B6E-B4CF-02D0E6BEC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FB5A6-B170-4CA6-9CCF-B832252BE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569880"/>
            <a:ext cx="8542080" cy="1052280"/>
            <a:chOff x="76320" y="569880"/>
            <a:chExt cx="8542080" cy="1052280"/>
          </a:xfrm>
        </p:grpSpPr>
        <p:sp>
          <p:nvSpPr>
            <p:cNvPr id="1" name=""/>
            <p:cNvSpPr/>
            <p:nvPr/>
          </p:nvSpPr>
          <p:spPr>
            <a:xfrm>
              <a:off x="366840" y="6778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49520" y="6778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90680" y="11001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0400" y="11001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10270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11360" y="5698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92040" y="13604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238880" y="6434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8756-259E-496A-9CF7-DE6870F2BD6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3EB7-44E4-4225-B429-49CB0A3570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6320" y="569880"/>
            <a:ext cx="8542080" cy="1052280"/>
            <a:chOff x="76320" y="569880"/>
            <a:chExt cx="8542080" cy="1052280"/>
          </a:xfrm>
        </p:grpSpPr>
        <p:sp>
          <p:nvSpPr>
            <p:cNvPr id="97" name=""/>
            <p:cNvSpPr/>
            <p:nvPr/>
          </p:nvSpPr>
          <p:spPr>
            <a:xfrm>
              <a:off x="366840" y="6778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9520" y="6778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0680" y="11001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0400" y="11001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320" y="10270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1360" y="5698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040" y="13604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3"/>
          </p:nvPr>
        </p:nvSpPr>
        <p:spPr>
          <a:xfrm>
            <a:off x="7238880" y="6434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5F61-9A38-43B5-B308-91B7AAC3264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4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49F5-2128-45C5-92CD-D1A2B3AD15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2093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dictive Runtime Analysis: Datara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Formal  Methods in System Design– CS47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rigore Ros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F9BE5-8F67-495C-AFF9-52B0B26807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1548360" y="241308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16400" y="29322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40800" y="34034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67720" y="4608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13800" y="50799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61960" y="56134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724280" y="2352600"/>
            <a:ext cx="4038840" cy="3209760"/>
            <a:chOff x="4724280" y="2352600"/>
            <a:chExt cx="4038840" cy="3209760"/>
          </a:xfrm>
        </p:grpSpPr>
        <p:sp>
          <p:nvSpPr>
            <p:cNvPr id="297" name="Cloud"/>
            <p:cNvSpPr/>
            <p:nvPr/>
          </p:nvSpPr>
          <p:spPr>
            <a:xfrm>
              <a:off x="4724280" y="2352600"/>
              <a:ext cx="4038840" cy="183852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2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rot="18889800">
              <a:off x="5219280" y="369540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28600" y="2819160"/>
            <a:ext cx="4038480" cy="3133800"/>
            <a:chOff x="228600" y="2819160"/>
            <a:chExt cx="4038480" cy="3133800"/>
          </a:xfrm>
        </p:grpSpPr>
        <p:sp>
          <p:nvSpPr>
            <p:cNvPr id="300" name="Cloud"/>
            <p:cNvSpPr/>
            <p:nvPr/>
          </p:nvSpPr>
          <p:spPr>
            <a:xfrm>
              <a:off x="228600" y="4114800"/>
              <a:ext cx="4038480" cy="183816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1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 rot="2710200">
              <a:off x="799920" y="316116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-360 h 1523880"/>
                <a:gd name="textAreaBottom" fmla="*/ 15238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91EC-1B3D-454E-89E8-065AC12D9D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Exampl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1482840" y="2413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16400" y="29322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5280" y="34034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02200" y="460836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13800" y="50799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896800" y="561348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724280" y="2352600"/>
            <a:ext cx="4038840" cy="3209760"/>
            <a:chOff x="4724280" y="2352600"/>
            <a:chExt cx="4038840" cy="3209760"/>
          </a:xfrm>
        </p:grpSpPr>
        <p:sp>
          <p:nvSpPr>
            <p:cNvPr id="312" name="Cloud"/>
            <p:cNvSpPr/>
            <p:nvPr/>
          </p:nvSpPr>
          <p:spPr>
            <a:xfrm>
              <a:off x="4724280" y="2352600"/>
              <a:ext cx="4038840" cy="183852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2) = {mutex2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rot="18889800">
              <a:off x="5219280" y="369540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28600" y="2819160"/>
            <a:ext cx="4038480" cy="3133800"/>
            <a:chOff x="228600" y="2819160"/>
            <a:chExt cx="4038480" cy="3133800"/>
          </a:xfrm>
        </p:grpSpPr>
        <p:sp>
          <p:nvSpPr>
            <p:cNvPr id="315" name="Cloud"/>
            <p:cNvSpPr/>
            <p:nvPr/>
          </p:nvSpPr>
          <p:spPr>
            <a:xfrm>
              <a:off x="228600" y="4114800"/>
              <a:ext cx="4038480" cy="183816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1) = {mutex1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mutex1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 rot="2710200">
              <a:off x="799920" y="316116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-360 h 1523880"/>
                <a:gd name="textAreaBottom" fmla="*/ 15238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529800" y="602784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arnin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3255-E18F-4793-A236-B1956E5E8C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Improv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vars are usually initialized without a 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-shared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shared vars are usually written at initialization and are read-only there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-write 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 shared var to have multiple readers but only a single wri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4BB3-8F27-4D70-8890-DCF35EDAA0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M for each vari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600200"/>
            <a:ext cx="1447920" cy="8380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3352680"/>
            <a:ext cx="1447920" cy="83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5562720"/>
            <a:ext cx="1447920" cy="838080"/>
          </a:xfrm>
          <a:prstGeom prst="ellipse">
            <a:avLst/>
          </a:prstGeom>
          <a:solidFill>
            <a:srgbClr val="fbf507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38680" y="3352680"/>
            <a:ext cx="1447920" cy="838440"/>
          </a:xfrm>
          <a:prstGeom prst="ellipse">
            <a:avLst/>
          </a:prstGeom>
          <a:solidFill>
            <a:srgbClr val="fd2e05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4"/>
            <a:endCxn id="322" idx="0"/>
          </p:cNvCxnSpPr>
          <p:nvPr/>
        </p:nvCxnSpPr>
        <p:spPr>
          <a:xfrm>
            <a:off x="2704680" y="2438280"/>
            <a:ext cx="108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2" idx="4"/>
            <a:endCxn id="323" idx="0"/>
          </p:cNvCxnSpPr>
          <p:nvPr/>
        </p:nvCxnSpPr>
        <p:spPr>
          <a:xfrm>
            <a:off x="2704680" y="4191120"/>
            <a:ext cx="1080" cy="1372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23" idx="6"/>
            <a:endCxn id="324" idx="3"/>
          </p:cNvCxnSpPr>
          <p:nvPr/>
        </p:nvCxnSpPr>
        <p:spPr>
          <a:xfrm flipV="1">
            <a:off x="3428640" y="4068360"/>
            <a:ext cx="2423160" cy="1913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22" idx="6"/>
            <a:endCxn id="324" idx="2"/>
          </p:cNvCxnSpPr>
          <p:nvPr/>
        </p:nvCxnSpPr>
        <p:spPr>
          <a:xfrm>
            <a:off x="3429000" y="3771720"/>
            <a:ext cx="22104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2" idx="1"/>
            <a:endCxn id="322" idx="3"/>
          </p:cNvCxnSpPr>
          <p:nvPr/>
        </p:nvCxnSpPr>
        <p:spPr>
          <a:xfrm flipH="1" rot="16200000">
            <a:off x="1897560" y="3769920"/>
            <a:ext cx="594360" cy="2520"/>
          </a:xfrm>
          <a:prstGeom prst="curvedConnector5">
            <a:avLst>
              <a:gd name="adj1" fmla="val -59090"/>
              <a:gd name="adj2" fmla="val -46100000"/>
              <a:gd name="adj3" fmla="val -5909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23" idx="1"/>
            <a:endCxn id="323" idx="3"/>
          </p:cNvCxnSpPr>
          <p:nvPr/>
        </p:nvCxnSpPr>
        <p:spPr>
          <a:xfrm flipH="1" rot="16200000">
            <a:off x="1897560" y="5979600"/>
            <a:ext cx="594360" cy="2520"/>
          </a:xfrm>
          <a:prstGeom prst="curvedConnector5">
            <a:avLst>
              <a:gd name="adj1" fmla="val -59090"/>
              <a:gd name="adj2" fmla="val -46100000"/>
              <a:gd name="adj3" fmla="val -5909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4" idx="7"/>
            <a:endCxn id="324" idx="5"/>
          </p:cNvCxnSpPr>
          <p:nvPr/>
        </p:nvCxnSpPr>
        <p:spPr>
          <a:xfrm flipH="1" rot="16200000">
            <a:off x="6577560" y="3769920"/>
            <a:ext cx="594360" cy="2520"/>
          </a:xfrm>
          <a:prstGeom prst="curvedConnector5">
            <a:avLst>
              <a:gd name="adj1" fmla="val -59090"/>
              <a:gd name="adj2" fmla="val 46100000"/>
              <a:gd name="adj3" fmla="val -5909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2238840" y="25909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69400" y="43434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w 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0" y="397836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,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rst 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0400" y="5638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68040" y="289548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w 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12040" y="55627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773840" y="2590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,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5257800"/>
            <a:ext cx="380880" cy="228600"/>
          </a:xfrm>
          <a:prstGeom prst="rect">
            <a:avLst/>
          </a:prstGeom>
          <a:solidFill>
            <a:srgbClr val="00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6172200"/>
            <a:ext cx="380880" cy="228600"/>
          </a:xfrm>
          <a:prstGeom prst="rect">
            <a:avLst/>
          </a:prstGeom>
          <a:solidFill>
            <a:srgbClr val="fd2e05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19920" y="5715000"/>
            <a:ext cx="380880" cy="228600"/>
          </a:xfrm>
          <a:prstGeom prst="rect">
            <a:avLst/>
          </a:prstGeom>
          <a:solidFill>
            <a:srgbClr val="fbf507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54880" y="5105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o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554520" y="55627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re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57040" y="60199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lso w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C38-EB00-4D2B-BA74-E8C0B5A5D1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example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1546560" y="2376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14600" y="28954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39360" y="3367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66280" y="4572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12000" y="50436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60520" y="55767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82920" y="1905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37560" y="6110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1752480"/>
            <a:ext cx="1981080" cy="609840"/>
          </a:xfrm>
          <a:prstGeom prst="wedgeEllipseCallout">
            <a:avLst>
              <a:gd name="adj1" fmla="val -101361"/>
              <a:gd name="adj2" fmla="val 782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2819520"/>
            <a:ext cx="1981080" cy="609480"/>
          </a:xfrm>
          <a:prstGeom prst="wedgeEllipseCallout">
            <a:avLst>
              <a:gd name="adj1" fmla="val -101361"/>
              <a:gd name="adj2" fmla="val 782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2208960" y="3886200"/>
            <a:ext cx="2971800" cy="838080"/>
          </a:xfrm>
          <a:prstGeom prst="wedgeEllipseCallout">
            <a:avLst>
              <a:gd name="adj1" fmla="val -75324"/>
              <a:gd name="adj2" fmla="val 109467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(v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{mutex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208960" y="4952880"/>
            <a:ext cx="2971800" cy="838440"/>
          </a:xfrm>
          <a:prstGeom prst="wedgeEllipseCallout">
            <a:avLst>
              <a:gd name="adj1" fmla="val -73453"/>
              <a:gd name="adj2" fmla="val -8712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hared-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(v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{mutex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208960" y="5943600"/>
            <a:ext cx="2971800" cy="838080"/>
          </a:xfrm>
          <a:prstGeom prst="wedgeEllipseCallout">
            <a:avLst>
              <a:gd name="adj1" fmla="val -73453"/>
              <a:gd name="adj2" fmla="val -8712"/>
            </a:avLst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hared-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(v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{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9AB-B38A-47B1-BEFF-684A67E895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3916440"/>
            <a:ext cx="8229600" cy="2484360"/>
            <a:chOff x="457200" y="3916440"/>
            <a:chExt cx="8229600" cy="2484360"/>
          </a:xfrm>
        </p:grpSpPr>
        <p:sp>
          <p:nvSpPr>
            <p:cNvPr id="363" name=""/>
            <p:cNvSpPr/>
            <p:nvPr/>
          </p:nvSpPr>
          <p:spPr>
            <a:xfrm>
              <a:off x="457200" y="3962520"/>
              <a:ext cx="8229600" cy="24382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3623040" y="4114800"/>
              <a:ext cx="4928400" cy="2206080"/>
              <a:chOff x="3623040" y="4114800"/>
              <a:chExt cx="4928400" cy="2206080"/>
            </a:xfrm>
          </p:grpSpPr>
          <p:sp>
            <p:nvSpPr>
              <p:cNvPr id="365" name=""/>
              <p:cNvSpPr/>
              <p:nvPr/>
            </p:nvSpPr>
            <p:spPr>
              <a:xfrm>
                <a:off x="7021440" y="4406760"/>
                <a:ext cx="685440" cy="1524240"/>
              </a:xfrm>
              <a:custGeom>
                <a:avLst/>
                <a:gdLst>
                  <a:gd name="textAreaLeft" fmla="*/ 55080 w 685440"/>
                  <a:gd name="textAreaRight" fmla="*/ 630360 w 685440"/>
                  <a:gd name="textAreaTop" fmla="*/ 55080 h 1524240"/>
                  <a:gd name="textAreaBottom" fmla="*/ 1469160 h 1524240"/>
                </a:gdLst>
                <a:ahLst/>
                <a:rect l="textAreaLeft" t="textAreaTop" r="textAreaRight" b="textAreaBottom"/>
                <a:pathLst>
                  <a:path w="21600" h="48019">
                    <a:moveTo>
                      <a:pt x="5956" y="0"/>
                    </a:moveTo>
                    <a:arcTo wR="5956" hR="5956" stAng="16200000" swAng="-5400000"/>
                    <a:lnTo>
                      <a:pt x="0" y="42063"/>
                    </a:lnTo>
                    <a:arcTo wR="5956" hR="5956" stAng="10800000" swAng="-5400000"/>
                    <a:lnTo>
                      <a:pt x="15644" y="48019"/>
                    </a:lnTo>
                    <a:arcTo wR="5956" hR="5956" stAng="5400000" swAng="-5400000"/>
                    <a:lnTo>
                      <a:pt x="21600" y="5956"/>
                    </a:lnTo>
                    <a:arcTo wR="5956" hR="5956" stAng="0" swAng="-5400000"/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Tahoma"/>
                  </a:rPr>
                  <a:t>v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927680" y="4114800"/>
                <a:ext cx="3617280" cy="588960"/>
              </a:xfrm>
              <a:custGeom>
                <a:avLst/>
                <a:gdLst/>
                <a:ahLst/>
                <a:rect l="l" t="t" r="r" b="b"/>
                <a:pathLst>
                  <a:path w="2279" h="371">
                    <a:moveTo>
                      <a:pt x="0" y="218"/>
                    </a:moveTo>
                    <a:cubicBezTo>
                      <a:pt x="108" y="242"/>
                      <a:pt x="396" y="349"/>
                      <a:pt x="647" y="360"/>
                    </a:cubicBezTo>
                    <a:cubicBezTo>
                      <a:pt x="898" y="371"/>
                      <a:pt x="1235" y="342"/>
                      <a:pt x="1507" y="282"/>
                    </a:cubicBezTo>
                    <a:cubicBezTo>
                      <a:pt x="1779" y="222"/>
                      <a:pt x="2118" y="59"/>
                      <a:pt x="2279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295960" y="4184640"/>
                <a:ext cx="137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(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,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971960" y="4697280"/>
                <a:ext cx="3555720" cy="517680"/>
              </a:xfrm>
              <a:custGeom>
                <a:avLst/>
                <a:gdLst/>
                <a:ahLst/>
                <a:rect l="l" t="t" r="r" b="b"/>
                <a:pathLst>
                  <a:path w="2240" h="326">
                    <a:moveTo>
                      <a:pt x="0" y="242"/>
                    </a:moveTo>
                    <a:cubicBezTo>
                      <a:pt x="108" y="254"/>
                      <a:pt x="386" y="326"/>
                      <a:pt x="647" y="313"/>
                    </a:cubicBezTo>
                    <a:cubicBezTo>
                      <a:pt x="908" y="300"/>
                      <a:pt x="1299" y="216"/>
                      <a:pt x="1565" y="164"/>
                    </a:cubicBezTo>
                    <a:cubicBezTo>
                      <a:pt x="1831" y="112"/>
                      <a:pt x="2099" y="34"/>
                      <a:pt x="2240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23040" y="4870440"/>
                <a:ext cx="137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(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,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995720" y="5526000"/>
                <a:ext cx="3555720" cy="459000"/>
              </a:xfrm>
              <a:custGeom>
                <a:avLst/>
                <a:gdLst/>
                <a:ahLst/>
                <a:rect l="l" t="t" r="r" b="b"/>
                <a:pathLst>
                  <a:path w="2240" h="289">
                    <a:moveTo>
                      <a:pt x="0" y="289"/>
                    </a:moveTo>
                    <a:cubicBezTo>
                      <a:pt x="125" y="255"/>
                      <a:pt x="500" y="130"/>
                      <a:pt x="753" y="83"/>
                    </a:cubicBezTo>
                    <a:cubicBezTo>
                      <a:pt x="1006" y="36"/>
                      <a:pt x="1273" y="8"/>
                      <a:pt x="1521" y="4"/>
                    </a:cubicBezTo>
                    <a:cubicBezTo>
                      <a:pt x="1769" y="0"/>
                      <a:pt x="2090" y="49"/>
                      <a:pt x="2240" y="61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267520" y="5861160"/>
                <a:ext cx="137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(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,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2349360" y="391644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19360" y="5549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11960" y="4572000"/>
              <a:ext cx="20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false ala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31440" y="23004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L1,L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78240" y="28195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4240" y="32907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L2,L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79560" y="22860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L2,L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726000" y="28051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672000" y="32767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L3,L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79720" y="22860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L3,L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621840" y="28051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72520" y="32767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L1,L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2560" y="16146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26640" y="16146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50840" y="16146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1688-5F69-4937-B73C-E70802D576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cise datarace detection proced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time/space expensive than Era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rack of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ome of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memory ac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 new read/write event is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it against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previous ac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the new memory access only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if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8C9-C6E1-4D8A-B810-805A0ADAFD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Database of ev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a database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storing tu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v : T, L, R/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variable or memory 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 execution thread accessing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set of current locks held by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/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lag giving the type of access (read or wri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ly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emp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85F-8AB5-4CC4-AC73-1B28208BE8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that a thread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holding lock set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is seen to perform a read 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or a write 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of a variabl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the tu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 = 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cases can be distinguished, but before that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352-44CA-4AE8-A7C4-5163F65952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… major go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o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effective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fore, if for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 = (v : T, L, R/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just received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’ = (v : T, L’, 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lready in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simply discarded, because any possible warning message (datarace) involving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ould be reported because of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C563-96C7-4B4B-BC4A-91837642D2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dictive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458200" y="594360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291520" y="2849400"/>
            <a:ext cx="824040" cy="2494080"/>
          </a:xfrm>
          <a:custGeom>
            <a:avLst/>
            <a:gdLst/>
            <a:ahLst/>
            <a:rect l="l" t="t" r="r" b="b"/>
            <a:pathLst>
              <a:path w="519" h="1571">
                <a:moveTo>
                  <a:pt x="519" y="5"/>
                </a:moveTo>
                <a:cubicBezTo>
                  <a:pt x="436" y="33"/>
                  <a:pt x="484" y="25"/>
                  <a:pt x="375" y="14"/>
                </a:cubicBezTo>
                <a:cubicBezTo>
                  <a:pt x="317" y="0"/>
                  <a:pt x="261" y="4"/>
                  <a:pt x="204" y="23"/>
                </a:cubicBezTo>
                <a:cubicBezTo>
                  <a:pt x="180" y="59"/>
                  <a:pt x="167" y="53"/>
                  <a:pt x="132" y="77"/>
                </a:cubicBezTo>
                <a:cubicBezTo>
                  <a:pt x="126" y="86"/>
                  <a:pt x="122" y="96"/>
                  <a:pt x="114" y="104"/>
                </a:cubicBezTo>
                <a:cubicBezTo>
                  <a:pt x="106" y="112"/>
                  <a:pt x="93" y="113"/>
                  <a:pt x="87" y="122"/>
                </a:cubicBezTo>
                <a:cubicBezTo>
                  <a:pt x="77" y="138"/>
                  <a:pt x="69" y="176"/>
                  <a:pt x="69" y="176"/>
                </a:cubicBezTo>
                <a:cubicBezTo>
                  <a:pt x="66" y="203"/>
                  <a:pt x="60" y="230"/>
                  <a:pt x="60" y="257"/>
                </a:cubicBezTo>
                <a:cubicBezTo>
                  <a:pt x="60" y="272"/>
                  <a:pt x="65" y="287"/>
                  <a:pt x="69" y="302"/>
                </a:cubicBezTo>
                <a:cubicBezTo>
                  <a:pt x="78" y="333"/>
                  <a:pt x="93" y="413"/>
                  <a:pt x="123" y="437"/>
                </a:cubicBezTo>
                <a:cubicBezTo>
                  <a:pt x="130" y="443"/>
                  <a:pt x="141" y="443"/>
                  <a:pt x="150" y="446"/>
                </a:cubicBezTo>
                <a:cubicBezTo>
                  <a:pt x="177" y="486"/>
                  <a:pt x="213" y="514"/>
                  <a:pt x="240" y="554"/>
                </a:cubicBezTo>
                <a:cubicBezTo>
                  <a:pt x="269" y="669"/>
                  <a:pt x="216" y="778"/>
                  <a:pt x="105" y="815"/>
                </a:cubicBezTo>
                <a:cubicBezTo>
                  <a:pt x="78" y="812"/>
                  <a:pt x="50" y="815"/>
                  <a:pt x="24" y="806"/>
                </a:cubicBezTo>
                <a:cubicBezTo>
                  <a:pt x="14" y="802"/>
                  <a:pt x="7" y="790"/>
                  <a:pt x="6" y="779"/>
                </a:cubicBezTo>
                <a:cubicBezTo>
                  <a:pt x="0" y="703"/>
                  <a:pt x="21" y="666"/>
                  <a:pt x="87" y="644"/>
                </a:cubicBezTo>
                <a:cubicBezTo>
                  <a:pt x="148" y="653"/>
                  <a:pt x="190" y="656"/>
                  <a:pt x="213" y="725"/>
                </a:cubicBezTo>
                <a:cubicBezTo>
                  <a:pt x="219" y="743"/>
                  <a:pt x="231" y="779"/>
                  <a:pt x="231" y="779"/>
                </a:cubicBezTo>
                <a:cubicBezTo>
                  <a:pt x="223" y="893"/>
                  <a:pt x="208" y="993"/>
                  <a:pt x="186" y="1103"/>
                </a:cubicBezTo>
                <a:cubicBezTo>
                  <a:pt x="177" y="1209"/>
                  <a:pt x="180" y="1291"/>
                  <a:pt x="213" y="1391"/>
                </a:cubicBezTo>
                <a:cubicBezTo>
                  <a:pt x="226" y="1431"/>
                  <a:pt x="259" y="1448"/>
                  <a:pt x="267" y="1472"/>
                </a:cubicBezTo>
                <a:cubicBezTo>
                  <a:pt x="281" y="1513"/>
                  <a:pt x="283" y="1542"/>
                  <a:pt x="312" y="15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ilm"/>
          <p:cNvSpPr/>
          <p:nvPr/>
        </p:nvSpPr>
        <p:spPr>
          <a:xfrm rot="14303400">
            <a:off x="7509960" y="4376160"/>
            <a:ext cx="447480" cy="2819520"/>
          </a:xfrm>
          <a:prstGeom prst="pie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629560" y="5343480"/>
            <a:ext cx="216000" cy="642960"/>
          </a:xfrm>
          <a:custGeom>
            <a:avLst/>
            <a:gdLst/>
            <a:ahLst/>
            <a:rect l="l" t="t" r="r" b="b"/>
            <a:pathLst>
              <a:path w="136" h="405">
                <a:moveTo>
                  <a:pt x="90" y="0"/>
                </a:moveTo>
                <a:cubicBezTo>
                  <a:pt x="113" y="68"/>
                  <a:pt x="136" y="54"/>
                  <a:pt x="108" y="153"/>
                </a:cubicBezTo>
                <a:cubicBezTo>
                  <a:pt x="105" y="165"/>
                  <a:pt x="89" y="170"/>
                  <a:pt x="81" y="180"/>
                </a:cubicBezTo>
                <a:cubicBezTo>
                  <a:pt x="61" y="206"/>
                  <a:pt x="37" y="230"/>
                  <a:pt x="27" y="261"/>
                </a:cubicBezTo>
                <a:cubicBezTo>
                  <a:pt x="0" y="343"/>
                  <a:pt x="9" y="296"/>
                  <a:pt x="9" y="4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610480" y="502920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83059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bug potentials from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ccessful r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dataraces, dead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cale well, very f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ften find the bu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alse positives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20FF-8AF2-4CEF-9A8A-682BD97438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… colors and sha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use distinct colors for distinct thre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use shapes for read/wr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s for r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s for wr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xagons for “don’t car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, the scenario on the previous slide can be drawn as follow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4419720"/>
            <a:ext cx="2971800" cy="2209680"/>
          </a:xfrm>
          <a:prstGeom prst="hexagon">
            <a:avLst>
              <a:gd name="adj" fmla="val 33623"/>
              <a:gd name="vf" fmla="val 11547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99320" y="43736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29400" y="5181480"/>
            <a:ext cx="1143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81280" y="521172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4724280"/>
            <a:ext cx="1371600" cy="9907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362320" y="5486400"/>
            <a:ext cx="1295280" cy="121932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1676520"/>
            <a:ext cx="7621200" cy="3583080"/>
            <a:chOff x="685800" y="1676520"/>
            <a:chExt cx="7621200" cy="3583080"/>
          </a:xfrm>
        </p:grpSpPr>
        <p:sp>
          <p:nvSpPr>
            <p:cNvPr id="404" name=""/>
            <p:cNvSpPr/>
            <p:nvPr/>
          </p:nvSpPr>
          <p:spPr>
            <a:xfrm>
              <a:off x="685800" y="1676520"/>
              <a:ext cx="6324480" cy="2895480"/>
            </a:xfrm>
            <a:prstGeom prst="cloudCallout">
              <a:avLst>
                <a:gd name="adj1" fmla="val 15111"/>
                <a:gd name="adj2" fmla="val 84703"/>
              </a:avLst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m, if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L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oes not intersect the lock set of another thread accessing same variable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v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then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L’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is not going to intersect it either, so a warning will be reported anyway.  So I can discard the tuple just received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30480" y="3946680"/>
              <a:ext cx="776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FBB-5616-4CF5-ABF5-CD20C11C5D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bcase 1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v : T, L’, R/W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3200400"/>
            <a:ext cx="3124440" cy="2590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17000" y="45720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22800" y="358128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971800" y="3429000"/>
            <a:ext cx="1371600" cy="7621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66880" y="4495680"/>
            <a:ext cx="175284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1480" y="4038480"/>
            <a:ext cx="1905120" cy="1447920"/>
          </a:xfrm>
          <a:prstGeom prst="hexagon">
            <a:avLst>
              <a:gd name="adj" fmla="val 32894"/>
              <a:gd name="vf" fmla="val 11547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723200" y="2909880"/>
            <a:ext cx="83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D668-9E38-42F0-A80E-638DD8FB72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read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5334120" y="2438280"/>
            <a:ext cx="2743200" cy="2286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72040" y="3505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912360" y="25146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19520" y="2971800"/>
            <a:ext cx="1752480" cy="15238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943600" y="3200400"/>
            <a:ext cx="1447920" cy="13716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205760" y="1905120"/>
            <a:ext cx="892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48E-5709-4393-80A2-860DFA3B96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bcase 3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therwise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read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hecking read conflict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a read conflict f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xists 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some tupl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’, L’, 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 ≠ T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∩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1C7-BA6D-4633-8C7E-68A4C8226E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bcase 1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v : T, L’, W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6417000" y="45720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22800" y="358128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71800" y="3429000"/>
            <a:ext cx="1371600" cy="7621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66880" y="4495680"/>
            <a:ext cx="175284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86400" y="4343400"/>
            <a:ext cx="1600200" cy="1066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029200" y="3657600"/>
            <a:ext cx="2590920" cy="2209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29600" y="2895480"/>
            <a:ext cx="83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07E5-221B-4443-A228-BC2A2736A9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write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6872040" y="3505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12360" y="25146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2971800"/>
            <a:ext cx="1752480" cy="7621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10080" y="2590920"/>
            <a:ext cx="2210040" cy="19810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932360" y="2482920"/>
            <a:ext cx="892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3657600"/>
            <a:ext cx="175284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B3E-7767-4A3B-BA93-5157FEBDE7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3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write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6872040" y="3505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12360" y="25146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19520" y="2971800"/>
            <a:ext cx="1752480" cy="15238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2438280"/>
            <a:ext cx="28195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843440" y="2133720"/>
            <a:ext cx="892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353-64B8-4941-BE7D-E15E7FD1DB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4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an mark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to be checked only against read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write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6823440" y="350532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60960" y="251460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2971800"/>
            <a:ext cx="1752480" cy="15238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57800" y="2438280"/>
            <a:ext cx="2666880" cy="22100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920" y="3352680"/>
            <a:ext cx="1523880" cy="1143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47B-79EE-4314-8AA6-5E525CFC0E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hecking write conflic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tupl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a current state o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 write conflict f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xists 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f and only i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som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’, L’, R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.t.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 ≠ T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∩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marked, there is some tupl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’, L’, 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.t.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 ≠ T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∩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BE7-5FAC-4166-85A0-53421E14C1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1546560" y="2376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14600" y="28954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539360" y="3367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966280" y="190512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23763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960520" y="29098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582920" y="1905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37560" y="34434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76760" y="3581280"/>
            <a:ext cx="55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16400" y="443376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x : T1, {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04920" y="4343400"/>
            <a:ext cx="2433600" cy="1054080"/>
            <a:chOff x="304920" y="4343400"/>
            <a:chExt cx="2433600" cy="1054080"/>
          </a:xfrm>
        </p:grpSpPr>
        <p:sp>
          <p:nvSpPr>
            <p:cNvPr id="474" name=""/>
            <p:cNvSpPr/>
            <p:nvPr/>
          </p:nvSpPr>
          <p:spPr>
            <a:xfrm>
              <a:off x="676080" y="502920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x : T1, {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4920" y="434340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48480" y="55911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1, {mutex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09600" y="5500800"/>
            <a:ext cx="2433600" cy="1053720"/>
            <a:chOff x="309600" y="5500800"/>
            <a:chExt cx="2433600" cy="1053720"/>
          </a:xfrm>
        </p:grpSpPr>
        <p:sp>
          <p:nvSpPr>
            <p:cNvPr id="478" name=""/>
            <p:cNvSpPr/>
            <p:nvPr/>
          </p:nvSpPr>
          <p:spPr>
            <a:xfrm>
              <a:off x="312480" y="6186240"/>
              <a:ext cx="23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1, {mutex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9600" y="550080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5645880" y="44337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2, {mutex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643360" y="4343400"/>
            <a:ext cx="2433600" cy="1054080"/>
            <a:chOff x="5643360" y="4343400"/>
            <a:chExt cx="2433600" cy="1054080"/>
          </a:xfrm>
        </p:grpSpPr>
        <p:sp>
          <p:nvSpPr>
            <p:cNvPr id="482" name=""/>
            <p:cNvSpPr/>
            <p:nvPr/>
          </p:nvSpPr>
          <p:spPr>
            <a:xfrm>
              <a:off x="5646240" y="5029200"/>
              <a:ext cx="23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2, {mutex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43360" y="434340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6055200" y="57294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x : T2, {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643720" y="5638680"/>
            <a:ext cx="2433600" cy="1054080"/>
            <a:chOff x="5643720" y="5638680"/>
            <a:chExt cx="2433600" cy="1054080"/>
          </a:xfrm>
        </p:grpSpPr>
        <p:sp>
          <p:nvSpPr>
            <p:cNvPr id="486" name=""/>
            <p:cNvSpPr/>
            <p:nvPr/>
          </p:nvSpPr>
          <p:spPr>
            <a:xfrm>
              <a:off x="6014880" y="632448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x : T2, {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43720" y="56386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2438280" y="4952880"/>
            <a:ext cx="3505320" cy="12193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37120" y="5715000"/>
            <a:ext cx="17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4AC-E68F-4E66-9CE1-303F9E7B48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r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905120"/>
            <a:ext cx="7467840" cy="1676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tar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curs when two or more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a shared variable, at least one access is a wri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o mechanism is used to prevent simultaneous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4572000"/>
            <a:ext cx="1447560" cy="990720"/>
          </a:xfrm>
          <a:prstGeom prst="ellipse">
            <a:avLst/>
          </a:prstGeom>
          <a:solidFill>
            <a:srgbClr val="fd2e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4572000"/>
            <a:ext cx="1447560" cy="990720"/>
          </a:xfrm>
          <a:prstGeom prst="ellipse">
            <a:avLst/>
          </a:prstGeom>
          <a:solidFill>
            <a:srgbClr val="fd2e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4800600"/>
            <a:ext cx="76176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: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202" idx="6"/>
            <a:endCxn id="204" idx="1"/>
          </p:cNvCxnSpPr>
          <p:nvPr/>
        </p:nvCxnSpPr>
        <p:spPr>
          <a:xfrm>
            <a:off x="3352320" y="506700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6" name=""/>
          <p:cNvCxnSpPr>
            <a:stCxn id="204" idx="3"/>
            <a:endCxn id="203" idx="2"/>
          </p:cNvCxnSpPr>
          <p:nvPr/>
        </p:nvCxnSpPr>
        <p:spPr>
          <a:xfrm>
            <a:off x="4952520" y="506700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2058120" y="5638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7760" y="5410080"/>
            <a:ext cx="11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4320" y="5638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181480" y="518148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589480" y="3809880"/>
            <a:ext cx="44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 Solution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itors, semaphore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4320" y="6248520"/>
            <a:ext cx="45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2e05"/>
                </a:solidFill>
                <a:latin typeface="Times New Roman"/>
              </a:rPr>
              <a:t>Result after both updates : 2 …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4AC1-D5E7-4C6A-AD0C-91572EA542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exampl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538560" y="22096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1,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78240" y="27288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31360" y="32004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2,m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86320" y="219564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2,m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726000" y="27147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579120" y="3186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3,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486840" y="219564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3,m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21840" y="27147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479640" y="3186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1,m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02560" y="15238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626640" y="15238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50840" y="15238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76760" y="3581280"/>
            <a:ext cx="55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32640" y="43578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1, {m1,m2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91600" y="4267080"/>
            <a:ext cx="2446560" cy="1054080"/>
            <a:chOff x="291600" y="4267080"/>
            <a:chExt cx="2446560" cy="1054080"/>
          </a:xfrm>
        </p:grpSpPr>
        <p:sp>
          <p:nvSpPr>
            <p:cNvPr id="506" name=""/>
            <p:cNvSpPr/>
            <p:nvPr/>
          </p:nvSpPr>
          <p:spPr>
            <a:xfrm>
              <a:off x="291600" y="495288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1, {m1,m2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4560" y="42670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3228120" y="43578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2, {m2,m3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187440" y="4267080"/>
            <a:ext cx="2446560" cy="1054080"/>
            <a:chOff x="3187440" y="4267080"/>
            <a:chExt cx="2446560" cy="1054080"/>
          </a:xfrm>
        </p:grpSpPr>
        <p:sp>
          <p:nvSpPr>
            <p:cNvPr id="510" name=""/>
            <p:cNvSpPr/>
            <p:nvPr/>
          </p:nvSpPr>
          <p:spPr>
            <a:xfrm>
              <a:off x="3187440" y="495288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2, {m2,m3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00400" y="42670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6123600" y="437184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3, {m1,m3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082920" y="4281480"/>
            <a:ext cx="2446560" cy="1054080"/>
            <a:chOff x="6082920" y="4281480"/>
            <a:chExt cx="2446560" cy="1054080"/>
          </a:xfrm>
        </p:grpSpPr>
        <p:sp>
          <p:nvSpPr>
            <p:cNvPr id="514" name=""/>
            <p:cNvSpPr/>
            <p:nvPr/>
          </p:nvSpPr>
          <p:spPr>
            <a:xfrm>
              <a:off x="6082920" y="496728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3, {m1,m3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95880" y="42814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241720" y="5835600"/>
            <a:ext cx="48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o conflicts detect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43B-CD71-4A34-8392-CE1CB06056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240080" y="552924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3440" y="4995720"/>
            <a:ext cx="2781360" cy="1524240"/>
          </a:xfrm>
          <a:prstGeom prst="roundRect">
            <a:avLst>
              <a:gd name="adj" fmla="val 16667"/>
            </a:avLst>
          </a:prstGeom>
          <a:solidFill>
            <a:srgbClr val="fd2e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25680" y="4919760"/>
            <a:ext cx="2362320" cy="4572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68880" y="4995720"/>
            <a:ext cx="2857680" cy="1524240"/>
          </a:xfrm>
          <a:prstGeom prst="roundRect">
            <a:avLst>
              <a:gd name="adj" fmla="val 16667"/>
            </a:avLst>
          </a:prstGeom>
          <a:solidFill>
            <a:srgbClr val="fd2e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1676520"/>
            <a:ext cx="6934320" cy="198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of Datarace in Jav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1285560" y="1676520"/>
            <a:ext cx="167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ell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 x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24600" y="4916520"/>
            <a:ext cx="22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ew Cell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2640" y="544032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add(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97560" y="5483160"/>
            <a:ext cx="17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add(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25680" y="6138720"/>
            <a:ext cx="2362320" cy="4572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24600" y="6138720"/>
            <a:ext cx="22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ew Cell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944800" y="51480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2944800" y="6138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688000" y="6138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88000" y="5148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40760" y="453852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03120" y="453852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68440" y="2430360"/>
            <a:ext cx="18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nchro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nchro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85920" y="24321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 get(){return x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add(Cell c){x = x + c.get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14720" y="242712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 get(){return x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add(Cell c){x = x + c.get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11680" y="4049640"/>
            <a:ext cx="8749080" cy="2470680"/>
            <a:chOff x="211680" y="4049640"/>
            <a:chExt cx="8749080" cy="2470680"/>
          </a:xfrm>
        </p:grpSpPr>
        <p:sp>
          <p:nvSpPr>
            <p:cNvPr id="235" name=""/>
            <p:cNvSpPr/>
            <p:nvPr/>
          </p:nvSpPr>
          <p:spPr>
            <a:xfrm>
              <a:off x="3338280" y="4052880"/>
              <a:ext cx="2362320" cy="4572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37920" y="4049640"/>
              <a:ext cx="23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L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= new Object(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804760" y="427824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00600" y="4278240"/>
              <a:ext cx="457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1680" y="4952880"/>
              <a:ext cx="2797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synchronized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L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3200" y="4964040"/>
              <a:ext cx="2797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synchronized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L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 txBox="1"/>
          <p:nvPr/>
        </p:nvSpPr>
        <p:spPr>
          <a:xfrm>
            <a:off x="3995640" y="566100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A618-BEF2-46B6-B5A1-CEEAF704F8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dicting Datar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ment program to emit events of the for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(register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mory_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(register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mory_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e and maintain a knowledge database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,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tate machine,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latio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warning if conflict found in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BE61-E19F-422B-92EC-571EADFD6B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ppens-before re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m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dea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intain a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happens-befo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tial order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n all events of all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Within one thread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dd edg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e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,e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ecuted befor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etween 2 thread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dd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(unlock(mutex),lock(mutex))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s unlock executes befor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s 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wo threads access the same variable and the two accesses are not in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warnin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ADD0-F738-4DFE-9A5E-9D1C7BE36B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ppens-before: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1546560" y="2376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14600" y="28954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39360" y="3367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66280" y="4572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2000" y="50436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60520" y="55767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2920" y="1905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37560" y="6110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rot="16200000">
            <a:off x="1217880" y="21333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rot="16200000">
            <a:off x="1217880" y="26668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rot="16200000">
            <a:off x="1217880" y="32000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16200000">
            <a:off x="5637600" y="48002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rot="16200000">
            <a:off x="5637600" y="53337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rot="16200000">
            <a:off x="5637600" y="58672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3657600"/>
            <a:ext cx="2514600" cy="9144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loud"/>
          <p:cNvSpPr/>
          <p:nvPr/>
        </p:nvSpPr>
        <p:spPr>
          <a:xfrm>
            <a:off x="152280" y="3809880"/>
            <a:ext cx="4267440" cy="28591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two accesses of shared variables are in the relation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happens-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6926-6ED9-4371-BD4A-A2EC770E2B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ppens-before: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1546560" y="519588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14600" y="57150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39360" y="618660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89960" y="20574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36040" y="25290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84200" y="30621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82920" y="4724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61240" y="35956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16200000">
            <a:off x="1217880" y="49528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16200000">
            <a:off x="1217880" y="54860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rot="16200000">
            <a:off x="1217880" y="60195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rot="16200000">
            <a:off x="5561280" y="22856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rot="16200000">
            <a:off x="5561280" y="28191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rot="16200000">
            <a:off x="5561280" y="33526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124080" y="3243240"/>
            <a:ext cx="2571840" cy="209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895480" y="3886200"/>
            <a:ext cx="2895840" cy="990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"/>
          <p:cNvSpPr/>
          <p:nvPr/>
        </p:nvSpPr>
        <p:spPr>
          <a:xfrm>
            <a:off x="4724280" y="3922560"/>
            <a:ext cx="4267440" cy="28591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fore, only this second execution reveals the existing datarac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99AE-DA00-47DF-BEBD-61DCA470A9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vage,Burrows,Nelson,Sobalvarro,And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Java PathExplor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zed 30,000 lines of code in a few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de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track of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ndidate loc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tecting each variabl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oted by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track of locks held by each thread,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access by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f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=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comes empty then warning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82E-EC71-4809-8C10-AED69F6F78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21:52:18Z</dcterms:created>
  <dc:creator>Default</dc:creator>
  <dc:description/>
  <dc:language>en-US</dc:language>
  <cp:lastModifiedBy>Your User Name</cp:lastModifiedBy>
  <dcterms:modified xsi:type="dcterms:W3CDTF">2007-04-17T12:01:15Z</dcterms:modified>
  <cp:revision>145</cp:revision>
  <dc:subject/>
  <dc:title>Experiments in Dynamic Analysis of Programs</dc:title>
</cp:coreProperties>
</file>